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8C4-B354-427C-B4E1-02CB5A4B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538-63EC-4982-AE1F-59E3EFDE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89A-20EA-4967-A835-3D10F9CF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398-9512-4DD9-A67C-219576D3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C52-A456-4831-BB52-66576A22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3B3-209B-4ADD-BE42-882F81BC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0384-4BB3-45DD-94F9-6A4E438A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005A-F7ED-44D8-BE0F-8745EFD5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E380-7246-4B98-BE78-053DD85D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6D7-34BE-42C7-AB95-471DC12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68C0-9D01-4FE6-830E-98667EC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A43-B9A2-418D-9E53-7D9E9FB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2EA8-6F1D-405D-BA69-0E5268B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0B00-1380-4942-80C9-165E1EC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5A21-75A2-40E1-8472-2253D8DC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649-ABCE-4032-8CE7-FB3B169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3B4-A935-46AE-9961-C1EF76DA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BC8-0BBD-4960-889D-BCC5287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C28-0B2A-408F-8D22-CCBB58B2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F61-72A9-46F5-8AA5-E6F11C4D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969-14EF-4106-9E7A-55F95FC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F95-B391-4AFA-BFF8-529380B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9BB-9C66-4544-ACEF-D96CAC1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B91-2DAB-4C2E-8831-EE3DAFD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70B-67D9-4C34-8E47-6C21C2F4B4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9245-4050-45D5-BA60-A8D8DEBE0D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apters 26 &amp; 2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fer Day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th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llowing Sav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eping track of money is import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ountants do that for a liv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INCOME ACCOUNTING involves doing it on a national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common thing to follow is GD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IGX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DP (or Y) = CIG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now we assume a CLOSED ECONOM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foreign component (compared to OPE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ipulating yields GDP-C-G=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nce any money not spent (by us or gov’t) is saved it becom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= 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ving = Inves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n’t matter wh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VATE SAVING by 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C SAVING by gov’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w/ BUDGET SURPLUS as compared to BUDGET DEFICI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ving occurs when you don’t spe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vesting occurs when buy capit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THE SAME THING…but are equal to each 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reates a New Marke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ving supplies money to be loaned (supply curv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vesting creates demand to have money (demand curv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bine to form the LOANABLE FUNDS MARKE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cture 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happens when supply or demand chan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&amp;I are key to fu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solutely must do 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helped cause the recessi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SAVING rate for yea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v’t trying to correct t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ke” us do 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Saving Incen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rent plan by Obama to match personal sa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Investment Incen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rently count half of investment as tax cred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 Gov’t Budget Surplus/Defic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hhh ohh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’s their impact on LF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Increases supp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wers IR; more attractive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Increases dem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ises IR; less attractive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 Greatly Increases dem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ises IR; less attractive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nter the Federal Reser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w saving 5% as count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ems huge, but still 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lanced by companies not inves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v’t borrowing huge amou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R should go u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ld down by FED…discount rate at .25%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ark side vide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happens w/o FED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v’t borrowing increases dem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reases I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s us less likely to borrow/spe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their spending to increase GDP but doesn’t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OWDING O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 theory it balanc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rt on page 57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bt to GDP ratio predicted to drop to 15% by 201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are we now??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th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all of that stuff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idea what Chapter 27 actually say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are going to focus on the RISK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sk is the perpetual bad gu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does nothing positi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uces spending, makes us uncomfortable, eliminates weal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body wants to lose mon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SK AVER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nderstanding ris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st like playing the lotte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sk spreading is very desir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d DIVERSIFI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se in poi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nk about insuran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buy insurance (any type)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sentially betting that something bad will happ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you win (&amp; it does) they p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you lose, they keep your mon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 problems can ari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Adverse Se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ose most likely to “win” also most likely to buy insur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Moral Hazar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insurance makes you more likely to use 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 less safe b/c have insur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CA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the following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Why is saving/investing critica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What is the purpose of financial market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 Draw the loanable funds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 Define crowding o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ion of saving &amp; inves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it so import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it come fr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uch does it co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ANABLE FUNDS market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OWDING O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7 SLID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does it all matte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st chapter focused on grow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is that concept connected her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saving &amp; investing critica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UY CAPITAL, BUY CAPITA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re capital = higher productiv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er productivity = higher outp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er output = more stuff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SPENDING ALL YOUR MONEY IS CRITIC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GOING PRESENT CONSUMPTION ALLOWS US TO INCREASE POTENITAL OUTPUT FOR THE FU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K AT THE GRAP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eed to not spend…it al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GDP hu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DP = C + I + G + 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we don’t spend, we sa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happens to the leftover mone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nks loan it to other people who want to borr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ancial Intermediar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nk about it as a pic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ANCIAL SYSTEM  allows borrowers to connect w/ those w/ money to le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ANCIAL MARKETS involves these trans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 most common:  Bond &amp; Stock Marke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y’re both MARKE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verned by individual incentive &amp; supply/dem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nd Market:  essentially a loan to person looking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ock Market:  part ownership in the endeavor itself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about capital (money) going back &amp; for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mind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&amp; currency are different…how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is anything tha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um of Exchange:  buy &amp; sell stuf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t of Account:  comparing val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e of Value:  save for l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ancial intermediaries include banks, credit unions, savings &amp; loan institutions, &amp; MUTUAL FUNDS (DIVERSIFICA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2:01:14Z</dcterms:created>
  <dc:creator>Lewisburg Area School District</dc:creator>
  <dc:description/>
  <dc:language>en-US</dc:language>
  <cp:lastModifiedBy>Lewisburg Area School District</cp:lastModifiedBy>
  <dcterms:modified xsi:type="dcterms:W3CDTF">2010-01-29T15:53:22Z</dcterms:modified>
  <cp:revision>8</cp:revision>
  <dc:subject/>
  <dc:title>Chapters 26 &amp; 27</dc:title>
</cp:coreProperties>
</file>